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18747-3110-4C1B-8D7C-3A12BF07F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B08EE-3BB1-4954-AD11-B2B9489F8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980-B0F4-476F-BDD0-D0F9FD6C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E78-5F29-4BAA-8920-627C3F8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839-69FE-4E9B-9C8C-8043117E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8F3-F4AD-4A8D-8AA6-3CC9405D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7F0C-AF84-44A7-8C24-54BB3214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CD0-6E0B-4960-A1C1-B8CB9FF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329-0D1B-4167-AF6E-FCEDB716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E202-3D37-411A-AB37-E1F74E01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2007-CBFA-467A-BF5B-48654927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611D-9FD7-4F1B-86A0-DBBF2722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7156-6BBF-4028-93C6-23007D5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209-6357-40A0-8991-6C5935E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4E87-21A9-4A0A-B994-91A75737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A0FE-A0BF-421A-B2F6-CD593A1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005D-A359-4E5D-92B4-7D3BAF6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7835-1700-4864-B176-EB8F66F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D7D-E76D-4205-B67B-C4A63B53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9BF3-EAF8-47C3-A28F-EC0F63F8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FAEC-994A-4C74-A3B7-F07668B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0E7E-C571-4FFB-9E38-92A6BFE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FE47-8E6D-45E4-A133-AC67B47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5115-6C30-4FF7-8EF2-E0A6656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E43-66CC-4063-BCE2-CD42000C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68A5-5A8F-4E36-80A8-AA443A5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3441-8298-4205-A965-36055F0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AC3D-2662-4903-8934-7DFF238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D731-AECC-46E0-BAE2-329E253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F9A9-5B01-4188-89C9-CE169072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039B-4EB2-448A-A82B-CB1F07AC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7E49-69FC-4E1B-A8F0-89A36A71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386A-2ABD-43B4-A376-8D7D075D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67B4-72A0-4F5A-B5C7-48871394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7341-D8CC-4976-8639-9343187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AC1-45FF-43D9-89BA-3B59166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93E6-C96A-47F7-BD25-586049D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39E0-91C9-42B3-923E-8F89FC5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B67A-7607-4C87-AC45-617EB68D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8DDB-31D9-49AF-8A19-C33F37B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8538-D9A1-465A-A6B8-06FD281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41F0-2624-46A7-8FC6-8834F61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F7C0-2E02-4C48-BA7B-726B079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0D16-AD01-4FE0-A513-2AF0C7C9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4272-CF8D-47EC-B074-075EC23A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FF0B-898A-40A2-B4C0-1100D3AF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26C-CD5E-4404-ADD0-59DD971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9E2FB-8221-47C1-8C1B-D52F9624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AEE5-3938-4CC1-AA88-8681BD1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ABFE-3597-48A5-BD87-6E75BA14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64C8-F2C7-4418-8805-D9323652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AD87-396D-42E7-8E28-BDED16A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E1862-60B5-49DF-A24B-366B312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DE29-48B9-4593-9D96-397918E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56E9-4874-48FA-9C67-665D323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E4191-5568-4EAD-8614-D7C3681C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E640-4757-4B11-83E7-80894D29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166-AF3D-46CE-B472-A1FC316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D4B0-65EE-43B8-9962-4DE49F50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DDF1-7319-4154-8E0F-E489916E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5E71-8254-415F-B268-13666CE7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F2C00-B23C-4E43-8A94-A4B672B2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309D2-B2A9-43B2-B278-21075965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4F4F-2DC0-49AA-85E7-77346405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8061-2347-484F-BD46-DB6AB13D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4559C-0AB4-42CE-A320-36BCC25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6E79-EC38-4C20-83C1-46D20D7F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3B3E-4B62-41CF-AA25-149F37B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D3F-D1BE-4917-ADB3-C73FD00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5BF6-072F-43DB-810B-CA75480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9871-9961-4783-B881-9B0FA675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6095B-4874-4F2F-B5C8-0123A529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D315-7922-45DD-8479-3ED8C77E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CC071-3E4E-42F9-9658-31C58B1E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C79A2-5C72-4D11-8B36-0CF49D4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F248-B5FE-4B29-A17C-5960F43C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74D4-E403-4143-A634-BFBE8C1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BE08A-24D1-47B0-8F06-29221A8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7480-B321-4AFD-B64D-B393EC31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24E-2046-4923-9937-F8AC6C84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E7A5E-F3EF-43A1-ABD3-B098992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A74A-A186-4272-B50E-CDDF86E1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E0B8C-81CA-4BF4-A5CA-D037DDD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6DFF9-AF08-4466-827A-6D5C1F79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35AA4-CC2C-4A58-BE4A-546C0E15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C07-0657-45D2-BA65-650378A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5622A-1753-4058-8333-F2BDA50597C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3C2BE-C806-414A-9775-A3B3372D7D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7B75A-F59D-4FB5-9A1F-8F1ECF9F55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7EE5E-0509-4939-B0BD-6F7B303D06C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0AA9A-BFFB-43B9-862B-3D2E4549F58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6307C-FFE3-4307-9083-8FA4B31656B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1F952-83D4-4E96-A5F4-4FBFCC589AE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PU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ints Possible = 4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s 580-585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s 575-579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s 567-572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60-566 =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4000"/>
          </a:bodyPr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Mowry-Hofstadter Thesis- idea that progressives were suffering from psychological (not economic) discont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rogressive reform was about reforming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Progressivism was a result of dislocations in American life; rapid changes occurred in the economy but no corresponding changes in social and political institutions. Economic ($) Power moved to big business, but social/political life remained centered in local communitie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resulted in the panic and disorder of the 1890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Da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uary 13, 201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Learning Goa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To explain “how women impacted the Progressive Era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ssential Ques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uld an Equal Rights Amendment be Fair to Wom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**What to think about during class**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xit Slip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3 ways women impacted the Progressive Era (due at end of clas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uckrakers-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s of Progressiv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hold up a card (0-4) for how well you understand the Learning Goa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Women Impacted the Progressive Era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-360" y="1407600"/>
            <a:ext cx="5559480" cy="5450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8000"/>
          </a:bodyPr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1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orking Class&amp; Immigran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seeking workmen’s compensation, wage and hour law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2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Common people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gainst special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3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Decline of political parties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d rise of interest groups working for specific economic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4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Impact of Wome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protecting their domestic role in an ever-increasing industrial world (temperance, divorce, prostitution, labor laws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5559480" y="4600440"/>
            <a:ext cx="3570120" cy="2257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559480" y="1720800"/>
            <a:ext cx="35272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-360" y="1520640"/>
            <a:ext cx="4995720" cy="4625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5000"/>
          </a:bodyPr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Jane Addams &amp; Hull Hou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dea that poverty and criminality were products of an unhealthy environment (opposite of social Darwinism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Settlement houses provided help to immigrant families (language, customs, etc of America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dea of middle class people “settling” in the inner city and bringing civilization to the fronti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995720" y="1521000"/>
            <a:ext cx="3937320" cy="2585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4995720" y="4106880"/>
            <a:ext cx="4148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1" name="Content Placeholder 3" descr=""/>
          <p:cNvPicPr/>
          <p:nvPr/>
        </p:nvPicPr>
        <p:blipFill>
          <a:blip r:embed="rId2"/>
          <a:srcRect l="-82677" t="0" r="-82677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0" y="1774800"/>
            <a:ext cx="89596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ston Marriages- women lived secretly together, often romantic, as women moved into non-traditional ro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AWSA- National American Woman Suffrage Association; argued giving women voting rights would strengthen temperance mo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Membership grew from 13,000 (1893) to 2 million (1917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774800"/>
            <a:ext cx="46227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9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rly successes in western sta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uaranteed political rights to women throughout the n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Goals: Government shoul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sure more democracy in government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 more accountable to its citizen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Reduce the power of wealthy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come more efficient and less corrup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13320" indent="-483480">
              <a:spcBef>
                <a:spcPts val="8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hold up a card (0-4) for how well you underst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 Vide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onstitutional amendment that would provide clear, legal protection for their rights and would prohibit all discrimination on the basis of se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iled every time up for vo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? Made women essentially like men (eligible for draft/wa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s the Equal Rights Amendment a good or bad ide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your neighbors, compile a list of pros and cons of a proposed Equal Rights Amend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mproving the working conditions of factory labor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ghting corruption in municipal govern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Protecting the interests of consum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581040" indent="-4730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Making government more directly responsible to the electora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-360" y="1774800"/>
            <a:ext cx="90313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d as writers who played a key role in alerting the public to wrongdoing in politics and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Jungl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eatpacking industry in Chicago by Upton Sincla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ctopu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ailroads and farmers (Frank Norr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Shame of the Citie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corrupt urban charities by Lincoln Steff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Bitter Cry of the Childre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use of child labor (John Sparg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87280" y="152532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8000"/>
          </a:bodyPr>
          <a:p>
            <a:pPr marL="385200" indent="-2804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amous Author - journalist and photographer who publicized the wretched conditions in which many immigrants liv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rbel"/>
              </a:rPr>
              <a:t>How the Other Half Liv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319720" y="3838680"/>
            <a:ext cx="3824280" cy="3019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3"/>
          <a:stretch/>
        </p:blipFill>
        <p:spPr>
          <a:xfrm>
            <a:off x="1044720" y="3833640"/>
            <a:ext cx="4275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essive reformers rejected Social Darwinism because they believed that conflict and competition did not necessarily improve socie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reak from previous era of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influential advocate of full political, economic, and social equality for Black Americ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AC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3795840" y="3498840"/>
            <a:ext cx="5348160" cy="3359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3"/>
          <a:stretch/>
        </p:blipFill>
        <p:spPr>
          <a:xfrm>
            <a:off x="150840" y="3902040"/>
            <a:ext cx="36450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40760" y="1774800"/>
            <a:ext cx="88059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ivil War / Reconstruction Review Tes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98320" indent="-2235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write answers on own pap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I write on the test? NO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 this count against my grade? NO!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why are we doing it? Review for midte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does this relate to the learning goa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98320" indent="-22356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are reviewing the actions of the US government during and after the Civil W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ing and Analyzing a DBQ on the Atomic Bomb used during World War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I write on this packet? Y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I have to write an actual essay? No, this is our way of finishing the unit on World War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does this relate to the learning goal? We are discussing how the President decided to end World War 2 using a very deadly weap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11:44Z</dcterms:created>
  <dc:creator>Mark Scacewater</dc:creator>
  <dc:description/>
  <dc:language>en-US</dc:language>
  <cp:lastModifiedBy>Mark Scacewater</cp:lastModifiedBy>
  <dcterms:modified xsi:type="dcterms:W3CDTF">2012-01-15T22:13:37Z</dcterms:modified>
  <cp:revision>20</cp:revision>
  <dc:subject/>
  <dc:title>Progressivism</dc:title>
</cp:coreProperties>
</file>